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476-5717-4DF6-8D25-31EDE2C4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CFF-DB0F-4AA4-BE4A-0725CD5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41C-02D1-4878-8162-937552EE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EE0-F509-4039-AFAA-65D1A857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036-29CB-49D6-914F-0BACB69C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649-9E95-4224-9F08-9FD76F1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488-ED60-41F1-A009-86968CE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A22-AFD5-445B-9726-1DD36EFD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FC2-2FA5-4B2D-8109-FA37AAE4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ACD-529F-45AF-8707-3BD9ACDB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830-8904-4154-88C2-BE4A4B9F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6B3-DB71-4882-A671-2D604B8E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CFD5-8D24-4B55-AB2E-5227F197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freeplaymusic.com/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hristianse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86200" y="457200"/>
            <a:ext cx="1981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eg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4038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029200"/>
            <a:ext cx="20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a Bentive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5,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hristiansen"/>
          <p:cNvPicPr/>
          <p:nvPr/>
        </p:nvPicPr>
        <p:blipFill>
          <a:blip r:embed="rId3"/>
          <a:stretch/>
        </p:blipFill>
        <p:spPr>
          <a:xfrm>
            <a:off x="6553080" y="22860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hristiansen"/>
          <p:cNvPicPr/>
          <p:nvPr/>
        </p:nvPicPr>
        <p:blipFill>
          <a:blip r:embed="rId4"/>
          <a:stretch/>
        </p:blipFill>
        <p:spPr>
          <a:xfrm>
            <a:off x="380880" y="3429000"/>
            <a:ext cx="59436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518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17880" y="2170080"/>
            <a:ext cx="42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 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my chi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3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315200" y="41148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Christiansen"/>
          <p:cNvPicPr/>
          <p:nvPr/>
        </p:nvPicPr>
        <p:blipFill>
          <a:blip r:embed="rId1"/>
          <a:stretch/>
        </p:blipFill>
        <p:spPr>
          <a:xfrm>
            <a:off x="0" y="0"/>
            <a:ext cx="67816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Christiansen"/>
          <p:cNvPicPr/>
          <p:nvPr/>
        </p:nvPicPr>
        <p:blipFill>
          <a:blip r:embed="rId2"/>
          <a:stretch/>
        </p:blipFill>
        <p:spPr>
          <a:xfrm>
            <a:off x="7162920" y="380880"/>
            <a:ext cx="1676160" cy="243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38098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September 19,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e Kirk Christiansen invented the L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0,christiansen was named junior vic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53 the legos were on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Ole’s grandson took over the po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sold Lego's in 130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for legos totaled more than 1.5 billion do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Ole Kirk Christian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 Kirk Christiansen was born in  18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2 he set up his own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4 Christiansen’s factory burne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en rebuilt it in 19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49 more than 200 different blocks wood and plastic were bui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33Z</dcterms:created>
  <dc:creator>install</dc:creator>
  <dc:description/>
  <dc:language>en-US</dc:language>
  <cp:lastModifiedBy>install</cp:lastModifiedBy>
  <dcterms:modified xsi:type="dcterms:W3CDTF">2011-09-26T13:56:44Z</dcterms:modified>
  <cp:revision>9</cp:revision>
  <dc:subject/>
  <dc:title>Slide 1</dc:title>
</cp:coreProperties>
</file>